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A85-A56A-423F-A013-F9AD2381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A0C-B1DA-4996-A9A9-A9FB01F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CAF-978F-42C8-8978-3A2AE8B7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EDD-C763-4425-A9C0-90E30CC5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B9E-2896-4A57-88D0-EBDD7816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3C0-C0F8-41A4-A7DA-5EA0E244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932-E075-4A5D-A87B-7CC0ED47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BD1-7552-4A86-8EB3-D09633E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C7C-EB0C-4DED-A62C-DE4E06C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A09-C49E-41EF-A802-693DC7D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67B-395F-4D9B-B43A-1433439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981-42D8-433D-809E-D78FE89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0837-CBCC-4B85-A5A7-3D7B7EB6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Me llamo _________ Clase 701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La fecha es el 5 de noviembre de 2015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320" y="1139760"/>
            <a:ext cx="89913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17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L.O.: to finish the review of the house and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ierto o Falso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casa pequeña tiene cuatro cu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apartamento grande tiene ocho cu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dificios son ba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casa privada tiene solo uno o dos pisos y un edificio tiene muchos pi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una casa, la familia usa un ascen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380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606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ntos cuartos tiene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e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es tu s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hay en tu dormi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5181480"/>
          <a:ext cx="8534520" cy="14828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  <a:gridCol w="21337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18720">
                      <a:solidFill>
                        <a:srgbClr val="fea24e"/>
                      </a:solidFill>
                    </a:lnB>
                    <a:solidFill>
                      <a:srgbClr val="ecd044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 (to ha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18720">
                      <a:solidFill>
                        <a:srgbClr val="fea24e"/>
                      </a:solidFill>
                    </a:lnB>
                    <a:solidFill>
                      <a:srgbClr val="ecd0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1872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bf7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a24e"/>
                      </a:solidFill>
                    </a:lnL>
                    <a:lnR w="5760">
                      <a:solidFill>
                        <a:srgbClr val="fea24e"/>
                      </a:solidFill>
                    </a:lnR>
                    <a:lnT w="5760">
                      <a:solidFill>
                        <a:srgbClr val="fea24e"/>
                      </a:solidFill>
                    </a:lnT>
                    <a:lnB w="5760">
                      <a:solidFill>
                        <a:srgbClr val="fea24e"/>
                      </a:solidFill>
                    </a:lnB>
                    <a:solidFill>
                      <a:srgbClr val="f8ee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vidad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Tomar 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Arial"/>
              </a:rPr>
              <a:t>Quiz: Repaso 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3:15Z</dcterms:created>
  <dc:creator>Helen</dc:creator>
  <dc:description/>
  <dc:language>en-US</dc:language>
  <cp:lastModifiedBy>Helen Zumaeta</cp:lastModifiedBy>
  <cp:lastPrinted>2014-10-15T22:28:50Z</cp:lastPrinted>
  <dcterms:modified xsi:type="dcterms:W3CDTF">2015-11-05T22:48:18Z</dcterms:modified>
  <cp:revision>18</cp:revision>
  <dc:subject/>
  <dc:title>Me llamo _________   Clase 10NN La fecha es el 27 de abril del 2009</dc:title>
</cp:coreProperties>
</file>